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CBB-3848-435D-82FD-CB66BB02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3949704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7080" y="19029600"/>
            <a:ext cx="3949704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E2F-CE6D-4375-A721-1749A90F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56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7080" y="1902960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560" y="1902960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779-D8B6-4799-9CF9-BDD88AEB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920" y="768312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5120" y="768312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7080" y="1902960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920" y="1902960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5120" y="19029600"/>
            <a:ext cx="1271772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EB9-C987-4974-A3AF-96284F35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7080" y="7683120"/>
            <a:ext cx="39497040" cy="2172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D09-CA38-43BF-B5B3-28A005B9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3949704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334-3A0C-49FB-A1F7-4A4375B2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927440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560" y="7683120"/>
            <a:ext cx="1927440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39E-59F4-43C6-8355-F168E71A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C1D-01B5-4D42-95B9-B3FF1951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7080" y="1320840"/>
            <a:ext cx="39497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264-A8E5-48F7-9846-7D53B084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560" y="7683120"/>
            <a:ext cx="1927440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7080" y="1902960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F80-EDC6-4FAE-A399-B8A4DC41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927440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56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560" y="1902960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C2D-A17C-42A4-8964-57306A61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708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560" y="7683120"/>
            <a:ext cx="1927440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7080" y="19029600"/>
            <a:ext cx="39497040" cy="103618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4387680"/>
                <a:tab algn="l" pos="8775720"/>
              </a:tabLst>
            </a:pP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60F-0D7A-4BA0-AA02-63C9F777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7080" y="1320840"/>
            <a:ext cx="3949704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7680"/>
                <a:tab algn="l" pos="8775720"/>
              </a:tabLst>
            </a:pPr>
            <a:r>
              <a:rPr b="0" lang="en-US" sz="21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7080" y="7683120"/>
            <a:ext cx="39497040" cy="21723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4480" indent="-1644480">
              <a:spcBef>
                <a:spcPts val="3801"/>
              </a:spcBef>
              <a:buClr>
                <a:srgbClr val="000000"/>
              </a:buClr>
              <a:buFont typeface="Arial"/>
              <a:buChar char="•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1" marL="3562200" indent="-1371600">
              <a:spcBef>
                <a:spcPts val="3801"/>
              </a:spcBef>
              <a:buClr>
                <a:srgbClr val="000000"/>
              </a:buClr>
              <a:buFont typeface="Arial"/>
              <a:buChar char="–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2" marL="5486400" indent="-1092240">
              <a:spcBef>
                <a:spcPts val="3801"/>
              </a:spcBef>
              <a:buClr>
                <a:srgbClr val="000000"/>
              </a:buClr>
              <a:buFont typeface="Arial"/>
              <a:buChar char="•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3" marL="7677000" indent="-1091880">
              <a:spcBef>
                <a:spcPts val="3801"/>
              </a:spcBef>
              <a:buClr>
                <a:srgbClr val="000000"/>
              </a:buClr>
              <a:buFont typeface="Arial"/>
              <a:buChar char="–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4" marL="9874080" indent="-1091880">
              <a:spcBef>
                <a:spcPts val="3801"/>
              </a:spcBef>
              <a:buClr>
                <a:srgbClr val="000000"/>
              </a:buClr>
              <a:buFont typeface="Arial"/>
              <a:buChar char="»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5" marL="9874080" indent="-1091880">
              <a:spcBef>
                <a:spcPts val="3801"/>
              </a:spcBef>
              <a:buClr>
                <a:srgbClr val="000000"/>
              </a:buClr>
              <a:buFont typeface="Arial"/>
              <a:buChar char="»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  <a:p>
            <a:pPr lvl="6" marL="9874080" indent="-1091880">
              <a:spcBef>
                <a:spcPts val="3801"/>
              </a:spcBef>
              <a:buClr>
                <a:srgbClr val="000000"/>
              </a:buClr>
              <a:buFont typeface="Arial"/>
              <a:buChar char="»"/>
              <a:tabLst>
                <a:tab algn="l" pos="4387680"/>
                <a:tab algn="l" pos="877572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7080" y="30511800"/>
            <a:ext cx="10236240" cy="1752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387680"/>
                <a:tab algn="l" pos="8775720"/>
              </a:tabLst>
              <a:defRPr b="0" lang="en-US" sz="5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387680"/>
                <a:tab algn="l" pos="8775720"/>
              </a:tabLst>
            </a:pPr>
            <a:r>
              <a:rPr b="0" lang="en-US" sz="5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8680" y="30511800"/>
            <a:ext cx="13893840" cy="1752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7880" y="30511800"/>
            <a:ext cx="10236240" cy="17524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87680"/>
                <a:tab algn="l" pos="8775720"/>
              </a:tabLst>
              <a:defRPr b="0" lang="en-US" sz="5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87680"/>
                <a:tab algn="l" pos="8775720"/>
              </a:tabLst>
            </a:pPr>
            <a:fld id="{1FBFA55B-51E6-40AC-AD79-4541BC4E463C}" type="slidenum">
              <a:rPr b="0" lang="en-US" sz="5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838760" y="11153880"/>
            <a:ext cx="34213680" cy="88722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otal size of poster: less than 48 M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Final Dimensions 48 inches x 36 inch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o Watermar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o Color Backgrou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Use High-Resolution Images for Best Printing Results (300dpi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ave as High-Quality Print PD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2743200" cy="3016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219320" y="1143000"/>
            <a:ext cx="4168116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1" lang="en-US" sz="9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itle:  96pt Bol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1" lang="en-US" sz="8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ame:  88pt Bol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0" lang="en-US" sz="8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dvisor:  88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1" lang="en-US" sz="8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Headlines:  88pt Bol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r>
              <a:rPr b="0" lang="en-US" sz="7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Body Text:  72p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7680"/>
                <a:tab algn="l" pos="877572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9:33:20Z</dcterms:created>
  <dc:creator>Ramona R. Speranza</dc:creator>
  <dc:description/>
  <dc:language>en-US</dc:language>
  <cp:lastModifiedBy>Andrea Wade</cp:lastModifiedBy>
  <dcterms:modified xsi:type="dcterms:W3CDTF">2019-02-28T16:05:12Z</dcterms:modified>
  <cp:revision>11</cp:revision>
  <dc:subject/>
  <dc:title>Slide 1</dc:title>
</cp:coreProperties>
</file>