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4E7-B6CB-4DDF-A13C-C42B9436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3949704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7080" y="19029600"/>
            <a:ext cx="3949704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212-EF4E-4DA3-A2C9-3F579222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708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56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C34-6FD8-457C-A5F9-BFB0DF2C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920" y="768312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5120" y="768312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7080" y="1902960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920" y="1902960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5120" y="1902960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C81-42B4-47CB-B0F0-26088165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7080" y="7683120"/>
            <a:ext cx="39497040" cy="2172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7B3-34FC-4206-95C0-EE61CB2F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3949704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C65-C2CB-45DD-9469-29BAC07F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25F-D1BE-472D-8EE3-E56DC413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767-B57D-46B6-9A26-16F3C5E9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7080" y="1320840"/>
            <a:ext cx="39497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57B-26A6-4842-8808-04223F0F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708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102-AD6F-46CA-A500-99BDFA34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56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C82-21E7-4CD6-B7F0-BA3D59E7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7080" y="19029600"/>
            <a:ext cx="3949704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0FC-01A9-47FA-B680-F3A5ECE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21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7080" y="7683120"/>
            <a:ext cx="3949704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4480" indent="-1644480">
              <a:spcBef>
                <a:spcPts val="3801"/>
              </a:spcBef>
              <a:buClr>
                <a:srgbClr val="000000"/>
              </a:buClr>
              <a:buFont typeface="Arial"/>
              <a:buChar char="•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1" marL="3562200" indent="-1371600">
              <a:spcBef>
                <a:spcPts val="3801"/>
              </a:spcBef>
              <a:buClr>
                <a:srgbClr val="000000"/>
              </a:buClr>
              <a:buFont typeface="Arial"/>
              <a:buChar char="–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2" marL="5486400" indent="-1092240">
              <a:spcBef>
                <a:spcPts val="3801"/>
              </a:spcBef>
              <a:buClr>
                <a:srgbClr val="000000"/>
              </a:buClr>
              <a:buFont typeface="Arial"/>
              <a:buChar char="•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3" marL="7677000" indent="-1091880">
              <a:spcBef>
                <a:spcPts val="3801"/>
              </a:spcBef>
              <a:buClr>
                <a:srgbClr val="000000"/>
              </a:buClr>
              <a:buFont typeface="Arial"/>
              <a:buChar char="–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4" marL="9874080" indent="-1091880">
              <a:spcBef>
                <a:spcPts val="3801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5" marL="9874080" indent="-1091880">
              <a:spcBef>
                <a:spcPts val="3801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6" marL="9874080" indent="-1091880">
              <a:spcBef>
                <a:spcPts val="3801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7080" y="30511800"/>
            <a:ext cx="10236240" cy="1752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  <a:defRPr b="0" lang="en-US" sz="5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5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8680" y="30511800"/>
            <a:ext cx="13893840" cy="1752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7880" y="30511800"/>
            <a:ext cx="10236240" cy="1752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  <a:defRPr b="0" lang="en-US" sz="5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</a:pPr>
            <a:fld id="{D9791316-7750-432D-932B-0AB63806B471}" type="slidenum">
              <a:rPr b="0" lang="en-US" sz="5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838760" y="11153880"/>
            <a:ext cx="34213680" cy="88722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otal size of poster: less than 48 M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Final Dimensions 48 inches x 36 inch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o Waterma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o Color Backgrou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Use High-Resolution Images for Best Printing Results (300dpi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ave as High-Quality Print PD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2743200" cy="3016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219320" y="1143000"/>
            <a:ext cx="4168116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1" lang="en-US" sz="9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itle:  96pt Bol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1" lang="en-US" sz="8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ame:  88pt Bol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0" lang="en-US" sz="8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dvisor:  88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1" lang="en-US" sz="8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Headlines:  88pt Bol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0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Body Text:  72p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9:33:20Z</dcterms:created>
  <dc:creator>Ramona R. Speranza</dc:creator>
  <dc:description/>
  <dc:language>en-US</dc:language>
  <cp:lastModifiedBy>Andrea Wade</cp:lastModifiedBy>
  <dcterms:modified xsi:type="dcterms:W3CDTF">2019-02-28T16:05:12Z</dcterms:modified>
  <cp:revision>11</cp:revision>
  <dc:subject/>
  <dc:title>Slide 1</dc:title>
</cp:coreProperties>
</file>