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3891200" cy="329184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B7E79-68AD-4C83-A8F8-A142726E7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197080" y="1320840"/>
            <a:ext cx="39497040" cy="54864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4387680"/>
                <a:tab algn="l" pos="8775720"/>
              </a:tabLst>
            </a:pPr>
            <a:endParaRPr b="0" lang="en-US" sz="2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197080" y="7683120"/>
            <a:ext cx="39497040" cy="1036188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4387680"/>
                <a:tab algn="l" pos="8775720"/>
              </a:tabLst>
            </a:pPr>
            <a:endParaRPr b="0" lang="en-US" sz="1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197080" y="19029600"/>
            <a:ext cx="39497040" cy="1036188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4387680"/>
                <a:tab algn="l" pos="8775720"/>
              </a:tabLst>
            </a:pPr>
            <a:endParaRPr b="0" lang="en-US" sz="1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C8210-F3D3-4F9F-B174-44D60EE75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197080" y="1320840"/>
            <a:ext cx="39497040" cy="54864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4387680"/>
                <a:tab algn="l" pos="8775720"/>
              </a:tabLst>
            </a:pPr>
            <a:endParaRPr b="0" lang="en-US" sz="2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197080" y="7683120"/>
            <a:ext cx="19274400" cy="1036188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4387680"/>
                <a:tab algn="l" pos="8775720"/>
              </a:tabLst>
            </a:pPr>
            <a:endParaRPr b="0" lang="en-US" sz="1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2435560" y="7683120"/>
            <a:ext cx="19274400" cy="1036188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4387680"/>
                <a:tab algn="l" pos="8775720"/>
              </a:tabLst>
            </a:pPr>
            <a:endParaRPr b="0" lang="en-US" sz="1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197080" y="19029600"/>
            <a:ext cx="19274400" cy="1036188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4387680"/>
                <a:tab algn="l" pos="8775720"/>
              </a:tabLst>
            </a:pPr>
            <a:endParaRPr b="0" lang="en-US" sz="1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2435560" y="19029600"/>
            <a:ext cx="19274400" cy="1036188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4387680"/>
                <a:tab algn="l" pos="8775720"/>
              </a:tabLst>
            </a:pPr>
            <a:endParaRPr b="0" lang="en-US" sz="1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F0D83-86F4-4D86-8343-74360C052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197080" y="1320840"/>
            <a:ext cx="39497040" cy="54864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4387680"/>
                <a:tab algn="l" pos="8775720"/>
              </a:tabLst>
            </a:pPr>
            <a:endParaRPr b="0" lang="en-US" sz="2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197080" y="7683120"/>
            <a:ext cx="12717720" cy="1036188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4387680"/>
                <a:tab algn="l" pos="8775720"/>
              </a:tabLst>
            </a:pPr>
            <a:endParaRPr b="0" lang="en-US" sz="1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550920" y="7683120"/>
            <a:ext cx="12717720" cy="1036188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4387680"/>
                <a:tab algn="l" pos="8775720"/>
              </a:tabLst>
            </a:pPr>
            <a:endParaRPr b="0" lang="en-US" sz="1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8905120" y="7683120"/>
            <a:ext cx="12717720" cy="1036188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4387680"/>
                <a:tab algn="l" pos="8775720"/>
              </a:tabLst>
            </a:pPr>
            <a:endParaRPr b="0" lang="en-US" sz="1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197080" y="19029600"/>
            <a:ext cx="12717720" cy="1036188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4387680"/>
                <a:tab algn="l" pos="8775720"/>
              </a:tabLst>
            </a:pPr>
            <a:endParaRPr b="0" lang="en-US" sz="1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550920" y="19029600"/>
            <a:ext cx="12717720" cy="1036188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4387680"/>
                <a:tab algn="l" pos="8775720"/>
              </a:tabLst>
            </a:pPr>
            <a:endParaRPr b="0" lang="en-US" sz="1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8905120" y="19029600"/>
            <a:ext cx="12717720" cy="1036188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4387680"/>
                <a:tab algn="l" pos="8775720"/>
              </a:tabLst>
            </a:pPr>
            <a:endParaRPr b="0" lang="en-US" sz="1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9A58D-3EB6-4478-A3F4-D4D150708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197080" y="1320840"/>
            <a:ext cx="39497040" cy="54864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4387680"/>
                <a:tab algn="l" pos="8775720"/>
              </a:tabLst>
            </a:pPr>
            <a:endParaRPr b="0" lang="en-US" sz="2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197080" y="7683120"/>
            <a:ext cx="39497040" cy="2172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801"/>
              </a:spcBef>
              <a:buNone/>
              <a:tabLst>
                <a:tab algn="l" pos="0"/>
                <a:tab algn="l" pos="4387680"/>
                <a:tab algn="l" pos="8775720"/>
              </a:tabLst>
            </a:pPr>
            <a:endParaRPr b="0" lang="en-US" sz="1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1A262-102D-43A1-9980-91BB00BBA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197080" y="1320840"/>
            <a:ext cx="39497040" cy="54864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4387680"/>
                <a:tab algn="l" pos="8775720"/>
              </a:tabLst>
            </a:pPr>
            <a:endParaRPr b="0" lang="en-US" sz="2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197080" y="7683120"/>
            <a:ext cx="39497040" cy="2172348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4387680"/>
                <a:tab algn="l" pos="8775720"/>
              </a:tabLst>
            </a:pPr>
            <a:endParaRPr b="0" lang="en-US" sz="1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12037-637A-480E-976B-EA3D4A9DF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197080" y="1320840"/>
            <a:ext cx="39497040" cy="54864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4387680"/>
                <a:tab algn="l" pos="8775720"/>
              </a:tabLst>
            </a:pPr>
            <a:endParaRPr b="0" lang="en-US" sz="2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197080" y="7683120"/>
            <a:ext cx="19274400" cy="2172348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4387680"/>
                <a:tab algn="l" pos="8775720"/>
              </a:tabLst>
            </a:pPr>
            <a:endParaRPr b="0" lang="en-US" sz="1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2435560" y="7683120"/>
            <a:ext cx="19274400" cy="2172348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4387680"/>
                <a:tab algn="l" pos="8775720"/>
              </a:tabLst>
            </a:pPr>
            <a:endParaRPr b="0" lang="en-US" sz="1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240CF-6B82-47C5-B7AD-5503EF529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197080" y="1320840"/>
            <a:ext cx="39497040" cy="54864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4387680"/>
                <a:tab algn="l" pos="8775720"/>
              </a:tabLst>
            </a:pPr>
            <a:endParaRPr b="0" lang="en-US" sz="2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20F71-5C6F-4214-9FB8-F1CBECC98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197080" y="1320840"/>
            <a:ext cx="39497040" cy="2543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801"/>
              </a:spcBef>
              <a:tabLst>
                <a:tab algn="l" pos="0"/>
                <a:tab algn="l" pos="4387680"/>
                <a:tab algn="l" pos="8775720"/>
              </a:tabLst>
            </a:pPr>
            <a:endParaRPr b="0" lang="en-US" sz="1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8208C-B437-48D6-B296-486C4A00F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197080" y="1320840"/>
            <a:ext cx="39497040" cy="54864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4387680"/>
                <a:tab algn="l" pos="8775720"/>
              </a:tabLst>
            </a:pPr>
            <a:endParaRPr b="0" lang="en-US" sz="2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197080" y="7683120"/>
            <a:ext cx="19274400" cy="1036188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4387680"/>
                <a:tab algn="l" pos="8775720"/>
              </a:tabLst>
            </a:pPr>
            <a:endParaRPr b="0" lang="en-US" sz="1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2435560" y="7683120"/>
            <a:ext cx="19274400" cy="2172348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4387680"/>
                <a:tab algn="l" pos="8775720"/>
              </a:tabLst>
            </a:pPr>
            <a:endParaRPr b="0" lang="en-US" sz="1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197080" y="19029600"/>
            <a:ext cx="19274400" cy="1036188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4387680"/>
                <a:tab algn="l" pos="8775720"/>
              </a:tabLst>
            </a:pPr>
            <a:endParaRPr b="0" lang="en-US" sz="1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0348B-4CE6-4469-AA0A-A6904EDA7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197080" y="1320840"/>
            <a:ext cx="39497040" cy="54864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4387680"/>
                <a:tab algn="l" pos="8775720"/>
              </a:tabLst>
            </a:pPr>
            <a:endParaRPr b="0" lang="en-US" sz="2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197080" y="7683120"/>
            <a:ext cx="19274400" cy="2172348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4387680"/>
                <a:tab algn="l" pos="8775720"/>
              </a:tabLst>
            </a:pPr>
            <a:endParaRPr b="0" lang="en-US" sz="1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2435560" y="7683120"/>
            <a:ext cx="19274400" cy="1036188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4387680"/>
                <a:tab algn="l" pos="8775720"/>
              </a:tabLst>
            </a:pPr>
            <a:endParaRPr b="0" lang="en-US" sz="1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2435560" y="19029600"/>
            <a:ext cx="19274400" cy="1036188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4387680"/>
                <a:tab algn="l" pos="8775720"/>
              </a:tabLst>
            </a:pPr>
            <a:endParaRPr b="0" lang="en-US" sz="1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4DEBB-F341-4E06-9C50-CE4FF655D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197080" y="1320840"/>
            <a:ext cx="39497040" cy="54864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4387680"/>
                <a:tab algn="l" pos="8775720"/>
              </a:tabLst>
            </a:pPr>
            <a:endParaRPr b="0" lang="en-US" sz="2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197080" y="7683120"/>
            <a:ext cx="19274400" cy="1036188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4387680"/>
                <a:tab algn="l" pos="8775720"/>
              </a:tabLst>
            </a:pPr>
            <a:endParaRPr b="0" lang="en-US" sz="1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2435560" y="7683120"/>
            <a:ext cx="19274400" cy="1036188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4387680"/>
                <a:tab algn="l" pos="8775720"/>
              </a:tabLst>
            </a:pPr>
            <a:endParaRPr b="0" lang="en-US" sz="1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197080" y="19029600"/>
            <a:ext cx="39497040" cy="1036188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4387680"/>
                <a:tab algn="l" pos="8775720"/>
              </a:tabLst>
            </a:pPr>
            <a:endParaRPr b="0" lang="en-US" sz="1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756EC-2A9E-42E0-ACC4-ABA67398D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197080" y="1320840"/>
            <a:ext cx="39497040" cy="54864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4387680"/>
                <a:tab algn="l" pos="8775720"/>
              </a:tabLst>
            </a:pPr>
            <a:r>
              <a:rPr b="0" lang="en-US" sz="21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2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197080" y="7683120"/>
            <a:ext cx="39497040" cy="2172348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marL="1644480" indent="-1644480">
              <a:spcBef>
                <a:spcPts val="3801"/>
              </a:spcBef>
              <a:buClr>
                <a:srgbClr val="000000"/>
              </a:buClr>
              <a:buFont typeface="Arial"/>
              <a:buChar char="•"/>
              <a:tabLst>
                <a:tab algn="l" pos="4387680"/>
                <a:tab algn="l" pos="8775720"/>
              </a:tabLst>
            </a:pPr>
            <a:r>
              <a:rPr b="0" lang="en-US" sz="15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5200" spc="-1" strike="noStrike">
              <a:solidFill>
                <a:srgbClr val="000000"/>
              </a:solidFill>
              <a:latin typeface="Calibri"/>
            </a:endParaRPr>
          </a:p>
          <a:p>
            <a:pPr lvl="1" marL="3562200" indent="-1371600">
              <a:spcBef>
                <a:spcPts val="3801"/>
              </a:spcBef>
              <a:buClr>
                <a:srgbClr val="000000"/>
              </a:buClr>
              <a:buFont typeface="Arial"/>
              <a:buChar char="–"/>
              <a:tabLst>
                <a:tab algn="l" pos="4387680"/>
                <a:tab algn="l" pos="8775720"/>
              </a:tabLst>
            </a:pPr>
            <a:r>
              <a:rPr b="0" lang="en-US" sz="15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5200" spc="-1" strike="noStrike">
              <a:solidFill>
                <a:srgbClr val="000000"/>
              </a:solidFill>
              <a:latin typeface="Calibri"/>
            </a:endParaRPr>
          </a:p>
          <a:p>
            <a:pPr lvl="2" marL="5486400" indent="-1092240">
              <a:spcBef>
                <a:spcPts val="3801"/>
              </a:spcBef>
              <a:buClr>
                <a:srgbClr val="000000"/>
              </a:buClr>
              <a:buFont typeface="Arial"/>
              <a:buChar char="•"/>
              <a:tabLst>
                <a:tab algn="l" pos="4387680"/>
                <a:tab algn="l" pos="8775720"/>
              </a:tabLst>
            </a:pPr>
            <a:r>
              <a:rPr b="0" lang="en-US" sz="15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5200" spc="-1" strike="noStrike">
              <a:solidFill>
                <a:srgbClr val="000000"/>
              </a:solidFill>
              <a:latin typeface="Calibri"/>
            </a:endParaRPr>
          </a:p>
          <a:p>
            <a:pPr lvl="3" marL="7677000" indent="-1091880">
              <a:spcBef>
                <a:spcPts val="3801"/>
              </a:spcBef>
              <a:buClr>
                <a:srgbClr val="000000"/>
              </a:buClr>
              <a:buFont typeface="Arial"/>
              <a:buChar char="–"/>
              <a:tabLst>
                <a:tab algn="l" pos="4387680"/>
                <a:tab algn="l" pos="8775720"/>
              </a:tabLst>
            </a:pPr>
            <a:r>
              <a:rPr b="0" lang="en-US" sz="15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5200" spc="-1" strike="noStrike">
              <a:solidFill>
                <a:srgbClr val="000000"/>
              </a:solidFill>
              <a:latin typeface="Calibri"/>
            </a:endParaRPr>
          </a:p>
          <a:p>
            <a:pPr lvl="4" marL="9874080" indent="-1091880">
              <a:spcBef>
                <a:spcPts val="3801"/>
              </a:spcBef>
              <a:buClr>
                <a:srgbClr val="000000"/>
              </a:buClr>
              <a:buFont typeface="Arial"/>
              <a:buChar char="»"/>
              <a:tabLst>
                <a:tab algn="l" pos="4387680"/>
                <a:tab algn="l" pos="8775720"/>
              </a:tabLst>
            </a:pPr>
            <a:r>
              <a:rPr b="0" lang="en-US" sz="15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5200" spc="-1" strike="noStrike">
              <a:solidFill>
                <a:srgbClr val="000000"/>
              </a:solidFill>
              <a:latin typeface="Calibri"/>
            </a:endParaRPr>
          </a:p>
          <a:p>
            <a:pPr lvl="5" marL="9874080" indent="-1091880">
              <a:spcBef>
                <a:spcPts val="3801"/>
              </a:spcBef>
              <a:buClr>
                <a:srgbClr val="000000"/>
              </a:buClr>
              <a:buFont typeface="Arial"/>
              <a:buChar char="»"/>
              <a:tabLst>
                <a:tab algn="l" pos="4387680"/>
                <a:tab algn="l" pos="8775720"/>
              </a:tabLst>
            </a:pPr>
            <a:r>
              <a:rPr b="0" lang="en-US" sz="15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5200" spc="-1" strike="noStrike">
              <a:solidFill>
                <a:srgbClr val="000000"/>
              </a:solidFill>
              <a:latin typeface="Calibri"/>
            </a:endParaRPr>
          </a:p>
          <a:p>
            <a:pPr lvl="6" marL="9874080" indent="-1091880">
              <a:spcBef>
                <a:spcPts val="3801"/>
              </a:spcBef>
              <a:buClr>
                <a:srgbClr val="000000"/>
              </a:buClr>
              <a:buFont typeface="Arial"/>
              <a:buChar char="»"/>
              <a:tabLst>
                <a:tab algn="l" pos="4387680"/>
                <a:tab algn="l" pos="8775720"/>
              </a:tabLst>
            </a:pPr>
            <a:r>
              <a:rPr b="0" lang="en-US" sz="15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197080" y="30511800"/>
            <a:ext cx="10236240" cy="175248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387680"/>
                <a:tab algn="l" pos="8775720"/>
              </a:tabLst>
              <a:defRPr b="0" lang="en-US" sz="56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387680"/>
                <a:tab algn="l" pos="8775720"/>
              </a:tabLst>
            </a:pPr>
            <a:r>
              <a:rPr b="0" lang="en-US" sz="56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998680" y="30511800"/>
            <a:ext cx="13893840" cy="175248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>
              <a:buNone/>
              <a:tabLst>
                <a:tab algn="l" pos="0"/>
                <a:tab algn="l" pos="4387680"/>
                <a:tab algn="l" pos="877572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1457880" y="30511800"/>
            <a:ext cx="10236240" cy="175248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387680"/>
                <a:tab algn="l" pos="8775720"/>
              </a:tabLst>
              <a:defRPr b="0" lang="en-US" sz="56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387680"/>
                <a:tab algn="l" pos="8775720"/>
              </a:tabLst>
            </a:pPr>
            <a:fld id="{1C7A957A-1958-42DC-9659-829118E1B2EA}" type="slidenum">
              <a:rPr b="0" lang="en-US" sz="56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4838760" y="11153880"/>
            <a:ext cx="34213680" cy="8872200"/>
          </a:xfrm>
          <a:prstGeom prst="rect">
            <a:avLst/>
          </a:prstGeom>
          <a:solidFill>
            <a:srgbClr val="b9cd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1" i="1" lang="en-US" sz="7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Total size of poster: less than 48 MB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1" i="1" lang="en-US" sz="7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Final Dimensions 48 inches x 36 inche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i="1" lang="en-US" sz="7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No Watermark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i="1" lang="en-US" sz="7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No Color Background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i="1" lang="en-US" sz="7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Use High-Resolution Images for Best Printing Results (300dpi)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i="1" lang="en-US" sz="7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Save as High-Quality Print PDF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1" descr=""/>
          <p:cNvPicPr/>
          <p:nvPr/>
        </p:nvPicPr>
        <p:blipFill>
          <a:blip r:embed="rId1"/>
          <a:stretch/>
        </p:blipFill>
        <p:spPr>
          <a:xfrm>
            <a:off x="1219320" y="1143000"/>
            <a:ext cx="2743200" cy="3016080"/>
          </a:xfrm>
          <a:prstGeom prst="rect">
            <a:avLst/>
          </a:prstGeom>
          <a:ln w="0">
            <a:noFill/>
          </a:ln>
        </p:spPr>
      </p:pic>
      <p:sp>
        <p:nvSpPr>
          <p:cNvPr id="43" name="TextBox 3"/>
          <p:cNvSpPr/>
          <p:nvPr/>
        </p:nvSpPr>
        <p:spPr>
          <a:xfrm>
            <a:off x="1219320" y="1143000"/>
            <a:ext cx="41681160" cy="360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387680"/>
                <a:tab algn="l" pos="8775720"/>
              </a:tabLst>
            </a:pPr>
            <a:r>
              <a:rPr b="1" lang="en-US" sz="96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Title:  96pt Bold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387680"/>
                <a:tab algn="l" pos="8775720"/>
              </a:tabLst>
            </a:pPr>
            <a:r>
              <a:rPr b="1" lang="en-US" sz="8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Name:  88pt Bold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387680"/>
                <a:tab algn="l" pos="8775720"/>
              </a:tabLst>
            </a:pPr>
            <a:r>
              <a:rPr b="0" lang="en-US" sz="8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Advisor:  88pt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387680"/>
                <a:tab algn="l" pos="877572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387680"/>
                <a:tab algn="l" pos="877572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387680"/>
                <a:tab algn="l" pos="8775720"/>
              </a:tabLst>
            </a:pPr>
            <a:r>
              <a:rPr b="1" lang="en-US" sz="8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Headlines:  88pt Bold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387680"/>
                <a:tab algn="l" pos="877572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387680"/>
                <a:tab algn="l" pos="8775720"/>
              </a:tabLst>
            </a:pPr>
            <a:r>
              <a:rPr b="0" lang="en-US" sz="7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Body Text:  72p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387680"/>
                <a:tab algn="l" pos="877572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387680"/>
                <a:tab algn="l" pos="877572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387680"/>
                <a:tab algn="l" pos="877572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387680"/>
                <a:tab algn="l" pos="877572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387680"/>
                <a:tab algn="l" pos="877572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387680"/>
                <a:tab algn="l" pos="877572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387680"/>
                <a:tab algn="l" pos="877572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387680"/>
                <a:tab algn="l" pos="877572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387680"/>
                <a:tab algn="l" pos="877572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387680"/>
                <a:tab algn="l" pos="877572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387680"/>
                <a:tab algn="l" pos="877572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387680"/>
                <a:tab algn="l" pos="877572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387680"/>
                <a:tab algn="l" pos="877572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387680"/>
                <a:tab algn="l" pos="877572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387680"/>
                <a:tab algn="l" pos="877572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387680"/>
                <a:tab algn="l" pos="877572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387680"/>
                <a:tab algn="l" pos="877572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387680"/>
                <a:tab algn="l" pos="877572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387680"/>
                <a:tab algn="l" pos="877572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387680"/>
                <a:tab algn="l" pos="877572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387680"/>
                <a:tab algn="l" pos="877572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387680"/>
                <a:tab algn="l" pos="877572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387680"/>
                <a:tab algn="l" pos="877572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387680"/>
                <a:tab algn="l" pos="877572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387680"/>
                <a:tab algn="l" pos="877572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387680"/>
                <a:tab algn="l" pos="877572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387680"/>
                <a:tab algn="l" pos="877572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387680"/>
                <a:tab algn="l" pos="877572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387680"/>
                <a:tab algn="l" pos="877572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387680"/>
                <a:tab algn="l" pos="877572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387680"/>
                <a:tab algn="l" pos="877572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387680"/>
                <a:tab algn="l" pos="877572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19:33:20Z</dcterms:created>
  <dc:creator>Ramona R. Speranza</dc:creator>
  <dc:description/>
  <dc:language>en-US</dc:language>
  <cp:lastModifiedBy>Andrea Wade</cp:lastModifiedBy>
  <dcterms:modified xsi:type="dcterms:W3CDTF">2019-02-28T16:05:12Z</dcterms:modified>
  <cp:revision>11</cp:revision>
  <dc:subject/>
  <dc:title>Slide 1</dc:title>
</cp:coreProperties>
</file>